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B9D-A31D-41B3-A6B1-C2E3A07F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153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E98-C76D-411C-BB83-886B992D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B31-86B7-47B8-8603-8AE1E45E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F61-590C-4FF4-BDB7-3987C4E0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2609-10FB-4D16-88F4-943EEB3A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3CDA-94F4-42F3-8359-7F0D33B6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F0C2-A5D2-46CB-9C1E-0C7967DD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2099-47CA-4B17-87F6-E0214401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6C67-1018-404E-9839-8B45B4D4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05840"/>
            <a:ext cx="8076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2A48-DA2D-4BD0-B27A-0F6BAAE1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ECBC-A9AE-40C1-94DF-74B6ABDC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CF9-4BC6-4A20-AF4B-2EA19B49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5AA7-DB93-4DC1-92AB-C5783A83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A6C6-839F-4F05-8998-8393E47A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9153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F3F1-4198-4709-81BC-635B7D6C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EF04-94CC-41BA-8A48-F7B77B00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4475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391536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5D89-1B58-47D4-B265-1175D2A0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889-2AB9-434F-B785-78912A71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AC3-1CFD-4FA8-819C-218951AA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1EB-8EF5-4AB8-8910-A7A00513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05840"/>
            <a:ext cx="80769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43C-18FB-4861-AB65-F1FB6516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023-3790-4E83-905B-1BCA4876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153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63E-A5B2-45FB-811F-6752074E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44756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FC0-1901-49A3-BBE2-E0C4BB82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80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620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96F5-3A98-4AC4-B8A3-B5649E6692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04680"/>
            <a:ext cx="739152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e8e94"/>
                </a:solidFill>
                <a:latin typeface="Arial Black"/>
              </a:rPr>
              <a:t>Click to edit the title text format</a:t>
            </a:r>
            <a:endParaRPr b="0" lang="en-US" sz="51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94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00400" y="624852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7B83-2048-4111-B345-263CDA3AFF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04680"/>
            <a:ext cx="739152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e8e94"/>
                </a:solidFill>
                <a:latin typeface="Arial Black"/>
              </a:rPr>
              <a:t>Sir, We Would See Jesus</a:t>
            </a:r>
            <a:endParaRPr b="0" lang="en-US" sz="51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560" y="3657600"/>
            <a:ext cx="6019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on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50-5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7:1-35; Matt. 11:20-30; Luke 7:36-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Jesus Attends A Feast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by Simon The Pharisee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7:36-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nitent harlot attends and pays homage to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 resents Jesus letting this sinful woman associate with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teaches a lesson on the gratefulness of those forgiven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381480" y="914400"/>
            <a:ext cx="5762520" cy="3714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2828880"/>
            <a:ext cx="6029280" cy="4029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819520" y="228600"/>
            <a:ext cx="28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perna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1066680"/>
            <a:ext cx="114300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99072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sus heals a centurion’s servant at Capernaum – Matt.8:5-13; Luke 7:1-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The Faith of the Centurion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ing Jesus to come heal his slave – Lk.7:1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ing that just the word of Jesus was enough – 7:6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ward of faith was instant healing to the servant – 7: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38360" y="914400"/>
            <a:ext cx="5705640" cy="370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2668680"/>
            <a:ext cx="6248520" cy="4133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657600" y="0"/>
            <a:ext cx="1219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2133720"/>
            <a:ext cx="53316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52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sus raises the widow’s son at Nain 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ke 7:11-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The Power of Jesus Over Death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okenhearted mother can touch Jesus’ heart – Luke 7:1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nderhearted Messiah can lift your hopelessness:  “Don’t cry” – v.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werful God Can Give Life To The Dead – v.14-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29200" y="5638680"/>
            <a:ext cx="13716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0"/>
            <a:ext cx="4105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hn is in pris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 Machaer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Message from John and Jesus’ Reply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you indeed the Messiah?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7:18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ore proof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eals the sick – Luke 7:21-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aises the dead – 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elivers the demon-possessed – 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reaches good news to the poor – 22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Jesus Talks About John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aithful and fearless forerunner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7:24-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prophesied by Malachi (3:1) – Luke 7:27-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ffect of John’s preaching on common, unprejudiced people – 7: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judice of the Pharisees – 7:30-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80769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8e94"/>
                </a:solidFill>
                <a:latin typeface="Arial Black"/>
              </a:rPr>
              <a:t>Woes Upon The Cities of Galilee –Matt. 11:20-30</a:t>
            </a:r>
            <a:endParaRPr b="0" lang="en-US" sz="4000" spc="-1" strike="noStrike">
              <a:solidFill>
                <a:srgbClr val="de8e94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1552680"/>
            <a:ext cx="8229600" cy="5305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33920" y="1371600"/>
            <a:ext cx="114300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1371600"/>
            <a:ext cx="12952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1828800"/>
            <a:ext cx="13716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1:54:23Z</dcterms:created>
  <dc:creator>Terry W. Benton</dc:creator>
  <dc:description/>
  <dc:language>en-US</dc:language>
  <cp:lastModifiedBy>Frank D Vines</cp:lastModifiedBy>
  <dcterms:modified xsi:type="dcterms:W3CDTF">2006-05-20T22:16:48Z</dcterms:modified>
  <cp:revision>5</cp:revision>
  <dc:subject/>
  <dc:title>Sir, We Would See Jesus</dc:title>
</cp:coreProperties>
</file>